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7AA-8945-43D2-A0DE-C96E3821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DC6B-8322-4D1A-8223-8FE3D9F5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0F69-4B6B-4D62-8EEA-5D5B5D4E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D74-247F-4E56-966D-3533BBE9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1105-E3BA-4F0F-AA34-6DBECE77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901-56E3-4974-9CC4-A2F03BE6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DC1-B0C9-4442-9F8F-C207A56B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107-F9F4-4148-A8F6-451354DB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73B-60BD-4E02-A2B8-E06036BC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C9B-2508-4650-B4DD-324B7F89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F3B-1F41-4BA3-8DC5-5552E635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2412-FB85-4716-A166-CAF9735E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F2D2-6C87-4288-8CCF-08AECDAE8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62920" y="4267080"/>
            <a:ext cx="17524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Ed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1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95480" y="762120"/>
            <a:ext cx="4267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atorad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91120" y="3200400"/>
            <a:ext cx="1695240" cy="2581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81080" y="2286000"/>
            <a:ext cx="1204920" cy="18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82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32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48278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0991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Cade"/>
          <p:cNvPicPr/>
          <p:nvPr/>
        </p:nvPicPr>
        <p:blipFill>
          <a:blip r:embed="rId1"/>
          <a:stretch/>
        </p:blipFill>
        <p:spPr>
          <a:xfrm>
            <a:off x="0" y="0"/>
            <a:ext cx="8991720" cy="2773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28040" y="3962520"/>
            <a:ext cx="46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erson MIT Program, Gato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bert Cade 5/16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eb.mit.edu/invent/iow/i-archive-c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Cade"/>
          <p:cNvPicPr/>
          <p:nvPr/>
        </p:nvPicPr>
        <p:blipFill>
          <a:blip r:embed="rId2"/>
          <a:stretch/>
        </p:blipFill>
        <p:spPr>
          <a:xfrm>
            <a:off x="2895480" y="5334120"/>
            <a:ext cx="34290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vention/Gato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orade helped athletes recover more quickly after work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e got the name Gatorade from the college football team called the G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orade was well on its way to world wide sales in the bill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orade became the household name when the tradition of pouring the Gatorade jug over the head of the winning team’s coach at the end of the super bowl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ore than 15 flavors of Gato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8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/Robert 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e was born in 1917 in Flo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e was trained at the University of Texas Medical School in Da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e worked as a professor of medicine and physiology there conducting research on kidney and liver disease, diabetes, hypertension and other ill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e also studies Down syndrome, autism and certain types of schizophrenia and develops diets to help these patients improve or reco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while, in 1973, Cade and the University of Florida were able to strike a deal that allows the university to reap roy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8:47Z</dcterms:created>
  <dc:creator>install</dc:creator>
  <dc:description/>
  <dc:language>en-US</dc:language>
  <cp:lastModifiedBy>install</cp:lastModifiedBy>
  <dcterms:modified xsi:type="dcterms:W3CDTF">2011-06-01T17:36:34Z</dcterms:modified>
  <cp:revision>7</cp:revision>
  <dc:subject/>
  <dc:title>Slide 1</dc:title>
</cp:coreProperties>
</file>